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48AE-D752-459C-962C-76FA7E0D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880-3326-45E7-A57B-81EDB83E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369-2539-4543-8D81-80C62C14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DE4-1902-4ED0-881F-A36F3895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DE93-2D5A-4233-8956-79BE3CC0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A616-9ABD-4765-9CD0-3DE16F48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2067-4DAD-464D-8198-308CC1AB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022C6-F09A-46EB-9893-DEBB7EDE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75F6E-4348-4C01-B3AC-045BEE36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0B3C-E24B-412B-BDC6-0266123B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DBE5-FE82-43F8-9913-AF05561E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B18-3F8A-44E5-9DF8-A77B9786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D731-D0A3-448C-8508-18664D79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6615-1F1F-4D67-A713-B01757FD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8D5-749D-47DA-A686-DD23158F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2F7D-C1A6-4CD1-B285-446ABFE9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37DC-798C-43D0-BC4C-E34C474A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E565-DE9C-4CA5-80DB-6F62CCB5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A5EB-2A09-4591-A4E0-FC43D876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F56-260E-4708-953C-797C3886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FAC9-3A09-4797-9AEA-265ECB19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EF4-0A7D-42EB-97E9-10DC45CA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0C5-BAFB-45EA-BDCD-8A2F9191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B02-855F-49F0-9AD1-0E2CB941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2233-2071-4A9D-B6F2-0EBFFB104A8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97E8-2D2C-4F01-BF70-4AE39AA6CD5A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 </a:t>
            </a:r>
            <a:r>
              <a:rPr b="0" lang="en-US" sz="6600" spc="-1" strike="noStrike">
                <a:solidFill>
                  <a:srgbClr val="dddddd"/>
                </a:solidFill>
                <a:latin typeface="Century Schoolbook"/>
              </a:rPr>
              <a:t>The Legislative  Branch</a:t>
            </a:r>
            <a:endParaRPr b="0" lang="en-US" sz="66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14040" y="4266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Schoolbook"/>
              </a:rPr>
              <a:t>The United States Congress</a:t>
            </a:r>
            <a:endParaRPr b="0" lang="en-US" sz="7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01" name="j0144813" descr=""/>
          <p:cNvPicPr/>
          <p:nvPr/>
        </p:nvPicPr>
        <p:blipFill>
          <a:blip r:embed="rId1"/>
          <a:stretch/>
        </p:blipFill>
        <p:spPr>
          <a:xfrm>
            <a:off x="5943600" y="304920"/>
            <a:ext cx="2506680" cy="3886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Members of the Senate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42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There are ___ Senators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What are the qualifications to run for a Senate seat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long do they serve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is the Senate different from the House?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Elections for Congress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54864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House is an “ever-changing” body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Schoolbook"/>
              </a:rPr>
              <a:t>The Senate is a “continuous” body.</a:t>
            </a: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3733920"/>
            <a:ext cx="342900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148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73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343400"/>
            <a:ext cx="350532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91120" y="4952880"/>
            <a:ext cx="3429000" cy="381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2971800"/>
            <a:ext cx="99072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106704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971800"/>
            <a:ext cx="106668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2971800"/>
            <a:ext cx="106668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2971800"/>
            <a:ext cx="99072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2971800"/>
            <a:ext cx="914400" cy="380880"/>
          </a:xfrm>
          <a:prstGeom prst="rect">
            <a:avLst/>
          </a:prstGeom>
          <a:solidFill>
            <a:srgbClr val="ff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3733920"/>
            <a:ext cx="320040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72400" y="4952880"/>
            <a:ext cx="1600200" cy="381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343400"/>
            <a:ext cx="2743200" cy="3808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ahoma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ahoma"/>
              </a:rPr>
              <a:t>3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What are key restrictions on members of Congress?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2017440"/>
            <a:ext cx="83455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A member of Congress cannot at the same time be in any other branch.  Why?  What is the one exception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Members of Congress can be “disciplined” if they are bad.  How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23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What are key restrictions on members of Congress?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285640"/>
            <a:ext cx="84214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Every Congressperson’s vote counts as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entury Schoolbook"/>
              </a:rPr>
              <a:t>one vote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, no more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No single house can make a law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entury Schoolbook"/>
              </a:rPr>
              <a:t>Both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houses must pass a bill, then the president must sign it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35880" indent="-3358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(More on this later!)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The Legislative Branch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3200" y="2246400"/>
            <a:ext cx="8650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It makes laws and is most directly connected to the people and their interests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U.S. Constitution – mostly in Article I – describes all the things it ca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Century Schoolbook"/>
              </a:rPr>
              <a:t>and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cannot do!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The Legislative Branch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534520" cy="43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Vested in Congress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y meet in the Capitol Building in Washington D.C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Considered the “first” branch. 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Century Schoolbook"/>
              </a:rPr>
              <a:t>Two houses:  The House of Representatives and Senate.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capitol" descr=""/>
          <p:cNvPicPr/>
          <p:nvPr/>
        </p:nvPicPr>
        <p:blipFill>
          <a:blip r:embed="rId1"/>
          <a:stretch/>
        </p:blipFill>
        <p:spPr>
          <a:xfrm>
            <a:off x="380880" y="958680"/>
            <a:ext cx="8153640" cy="5899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The Bicameral Legislature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House of Representatives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867280" y="2133720"/>
            <a:ext cx="23623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Schoolbook"/>
              </a:rPr>
              <a:t>Senate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0" name=""/>
          <p:cNvSpPr/>
          <p:nvPr/>
        </p:nvSpPr>
        <p:spPr>
          <a:xfrm>
            <a:off x="6477120" y="3124080"/>
            <a:ext cx="914400" cy="83844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124080"/>
            <a:ext cx="914400" cy="838440"/>
          </a:xfrm>
          <a:prstGeom prst="down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The Mall in Washington D.C.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pic>
        <p:nvPicPr>
          <p:cNvPr id="113" name="mall2" descr=""/>
          <p:cNvPicPr/>
          <p:nvPr/>
        </p:nvPicPr>
        <p:blipFill>
          <a:blip r:embed="rId1"/>
          <a:stretch/>
        </p:blipFill>
        <p:spPr>
          <a:xfrm>
            <a:off x="2666880" y="1066680"/>
            <a:ext cx="3921120" cy="477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543800" y="1371600"/>
            <a:ext cx="1600200" cy="1191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White 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6553080" y="2209680"/>
            <a:ext cx="1524240" cy="1752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81080" y="6019920"/>
            <a:ext cx="533412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6172200"/>
            <a:ext cx="2819520" cy="825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Supreme Cou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Who represents whom?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438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House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Senate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President 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Supreme Court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24280" y="2209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people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states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country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entury Schoolbook"/>
              </a:rPr>
              <a:t>The U.S. Constitution</a:t>
            </a:r>
            <a:endParaRPr b="0" lang="en-US" sz="4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Members of Congress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440"/>
            <a:ext cx="86500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many are there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do they get there?  And what is the most important factor in winning a Congressional seat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When does their meeting start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What do they get?  (Salary, privileges, benefits, expenses…)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23" name="PE01561_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2743200" cy="1820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Century Schoolbook"/>
              </a:rPr>
              <a:t>Members of the House</a:t>
            </a: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209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There are ___ U.S. Representatives.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What are the qualifications to run for a House seat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long do they serve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How is the House different from the Senate?</a:t>
            </a:r>
            <a:endParaRPr b="0" lang="en-US" sz="4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Century School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29" name="map03" descr="Apportionment of the U.S. House of Representatives for the 108th Congress"/>
          <p:cNvPicPr/>
          <p:nvPr/>
        </p:nvPicPr>
        <p:blipFill>
          <a:blip r:embed="rId1"/>
          <a:stretch/>
        </p:blipFill>
        <p:spPr>
          <a:xfrm>
            <a:off x="304920" y="-28440"/>
            <a:ext cx="8610480" cy="6886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16:50:39Z</dcterms:created>
  <dc:creator>User</dc:creator>
  <dc:description/>
  <dc:language>en-US</dc:language>
  <cp:lastModifiedBy>WCHS</cp:lastModifiedBy>
  <dcterms:modified xsi:type="dcterms:W3CDTF">2006-07-18T15:37:52Z</dcterms:modified>
  <cp:revision>26</cp:revision>
  <dc:subject/>
  <dc:title> The Legislative  Branch</dc:title>
</cp:coreProperties>
</file>